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D248F-8CF2-4D07-89F3-FB1D5CCF98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ime was after the Feast of Dedication in Dec.  Feast of Dedication was established to celebrate the rededication of the temple and the relighting of sacred lamps by Judas Maccabeus in 164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od Antipas was the one that had John beheade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sus asked if it was lawful to heal on the sabbath prior to healing the man of dropsy (a disease of fluid ret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asked if their cow or donkey fell into a pit, would they get them ou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ility – one who exalts himself will be humbled is taught in Matt 18:4, 23:12, and Rom 12: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iting poor guest is laying up treasures in hea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ke 14:15 “Blessed is he that shall eat bread in the kingdom of heaven” was spoken by a Jew referring to a physical king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ws made excuses, Gentiles will be inclu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xcuses:  finish education, establish career, raise family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e father and mother – love 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 intending to build a tow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C348EE-F2F2-4A04-91C5-BDD0BF5652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5CC67C-2A7F-4F76-A6FC-B05C51410A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4629E7-1FBA-4F8A-8002-82C6EE5245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D51C86-575E-487D-AE4F-23095B7A10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990FDBF-B271-4382-9730-519E3FC181E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4866DF2-B7AC-4ED5-B680-9CA99F2A0ED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A903CB-98AF-4551-B4D0-92FF2BFD96A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B75BDD-F1D7-43FA-A08E-7709A479390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7522C3-7154-4C4B-9635-86598EC6087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D66F82-18FC-4CF3-84FF-3C252752B8B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F22886-C767-4224-B5DA-B2374E958D4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D88D23-AA98-4862-8C8B-98F4DF9E36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211ED4-04D2-46B0-AE88-19E33C48529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19B55D-1023-4B5B-A99F-89A3B4EB32D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91E881-F330-4F41-9AF4-1766CC8DE5E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BF93952-386E-4BC3-A4EE-3B1E4729797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CA13706-B2B1-4A01-BA2E-C648D9EC084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5421D0-240C-40DF-9B4D-F27777BFAB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56EA7A-F9FA-4091-9471-A46944B140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53C2D1-1D1B-4FA7-8261-C3DD4856BD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BD43C0-CCFE-49F2-ADF9-E5DB5EFD27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285E4-C26F-4D52-9180-E33A460549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3A32A-BF87-4D92-B096-1C1DB69B5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6E3CE-B3B8-44C4-B17E-8712049625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48B1B-7E89-429D-A868-88977CC1D48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90D62-DF93-4C65-973C-A95A915EAE0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1447560"/>
            <a:ext cx="7772400" cy="1469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Go Tell The Good News</a:t>
            </a:r>
            <a:br>
              <a:rPr sz="4400"/>
            </a:br>
            <a:r>
              <a:rPr b="0" lang="en-US" sz="3200" spc="-1" strike="noStrike">
                <a:solidFill>
                  <a:srgbClr val="ffffff"/>
                </a:solidFill>
                <a:latin typeface="Tahoma"/>
              </a:rPr>
              <a:t>Summary of 2 Corinthians, Part 2</a:t>
            </a:r>
            <a:endParaRPr b="0" lang="en-US" sz="3200" spc="-1" strike="noStrike">
              <a:solidFill>
                <a:srgbClr val="ffffff"/>
              </a:solidFill>
              <a:latin typeface="Tahoma"/>
            </a:endParaRPr>
          </a:p>
        </p:txBody>
      </p:sp>
      <p:sp>
        <p:nvSpPr>
          <p:cNvPr id="91" name="PlaceHolder 2"/>
          <p:cNvSpPr>
            <a:spLocks noGrp="1"/>
          </p:cNvSpPr>
          <p:nvPr>
            <p:ph type="subTitle"/>
          </p:nvPr>
        </p:nvSpPr>
        <p:spPr>
          <a:xfrm>
            <a:off x="1371600" y="3505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Quarter 12, Lesson 6</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Corinthians 4 - 13</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ges 159 - 166</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2 Corinthians 12</a:t>
            </a:r>
            <a:endParaRPr b="0" lang="en-US" sz="4400" spc="-1" strike="noStrike">
              <a:solidFill>
                <a:srgbClr val="ffffff"/>
              </a:solidFill>
              <a:latin typeface="Tahoma"/>
            </a:endParaRPr>
          </a:p>
        </p:txBody>
      </p:sp>
      <p:sp>
        <p:nvSpPr>
          <p:cNvPr id="109" name="PlaceHolder 2"/>
          <p:cNvSpPr>
            <a:spLocks noGrp="1"/>
          </p:cNvSpPr>
          <p:nvPr>
            <p:ph/>
          </p:nvPr>
        </p:nvSpPr>
        <p:spPr>
          <a:xfrm>
            <a:off x="457200" y="1905120"/>
            <a:ext cx="8229600" cy="45720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arious revelations support Paul’s apostleship</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ul was given a thorn in the flesh to keep him humble</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ul took pleasure in difficulties for Christ’s sake because they made him strong</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gns of an apostle were wrought in Corinth in all patience, in signs, and wonders, and mighty deeds</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ul stated that he would gladly spend and be spent for Corinthians</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ul’s concern was that he not find them carna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2 Corinthians 13</a:t>
            </a:r>
            <a:endParaRPr b="0" lang="en-US" sz="4400" spc="-1" strike="noStrike">
              <a:solidFill>
                <a:srgbClr val="ffffff"/>
              </a:solidFill>
              <a:latin typeface="Tahoma"/>
            </a:endParaRPr>
          </a:p>
        </p:txBody>
      </p:sp>
      <p:sp>
        <p:nvSpPr>
          <p:cNvPr id="11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ul asked that they examine themselves, whether they be in the faith; to prove themselve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ul wrote these things, lest when present he would have to use sharpnes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closing, Paul requested that they be perfect, of good comfort, of one mind, living in peace, and that the God of love and peace be with them</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aul’s 3</a:t>
            </a:r>
            <a:r>
              <a:rPr b="0" lang="en-US" sz="4400" spc="-1" strike="noStrike" baseline="30000">
                <a:solidFill>
                  <a:srgbClr val="ffffff"/>
                </a:solidFill>
                <a:latin typeface="Tahoma"/>
              </a:rPr>
              <a:t>rd</a:t>
            </a:r>
            <a:r>
              <a:rPr b="0" lang="en-US" sz="4400" spc="-1" strike="noStrike">
                <a:solidFill>
                  <a:srgbClr val="ffffff"/>
                </a:solidFill>
                <a:latin typeface="Tahoma"/>
              </a:rPr>
              <a:t> Missionary Journey</a:t>
            </a:r>
            <a:endParaRPr b="0" lang="en-US" sz="4400" spc="-1" strike="noStrike">
              <a:solidFill>
                <a:srgbClr val="ffffff"/>
              </a:solidFill>
              <a:latin typeface="Tahoma"/>
            </a:endParaRPr>
          </a:p>
        </p:txBody>
      </p:sp>
      <p:pic>
        <p:nvPicPr>
          <p:cNvPr id="113" name="" descr=""/>
          <p:cNvPicPr/>
          <p:nvPr/>
        </p:nvPicPr>
        <p:blipFill>
          <a:blip r:embed="rId2"/>
          <a:stretch/>
        </p:blipFill>
        <p:spPr>
          <a:xfrm>
            <a:off x="685800" y="1676520"/>
            <a:ext cx="7862760" cy="4343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38088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 Corinthians 4</a:t>
            </a:r>
            <a:endParaRPr b="0" lang="en-US" sz="4000" spc="-1" strike="noStrike">
              <a:solidFill>
                <a:srgbClr val="ffffff"/>
              </a:solidFill>
              <a:latin typeface="Tahoma"/>
            </a:endParaRPr>
          </a:p>
        </p:txBody>
      </p:sp>
      <p:sp>
        <p:nvSpPr>
          <p:cNvPr id="93" name="PlaceHolder 2"/>
          <p:cNvSpPr>
            <a:spLocks noGrp="1"/>
          </p:cNvSpPr>
          <p:nvPr>
            <p:ph/>
          </p:nvPr>
        </p:nvSpPr>
        <p:spPr>
          <a:xfrm>
            <a:off x="457200" y="1523880"/>
            <a:ext cx="8229600" cy="4724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ul and companions renounced actions that would bring shame upon the message</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rist Jesus the Lord was preached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odily weaknesses do not bring shame on the treasure</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ul and companions were troubled, perplexed, and persecuted but not overcome</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y were delivered unto death for Jesus’ sake, that the life of Jesus may be shown in their flesh</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ght affliction now works for more exceeding glor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38088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 Corinthians 5</a:t>
            </a:r>
            <a:endParaRPr b="0" lang="en-US" sz="4000" spc="-1" strike="noStrike">
              <a:solidFill>
                <a:srgbClr val="ffffff"/>
              </a:solidFill>
              <a:latin typeface="Tahoma"/>
            </a:endParaRPr>
          </a:p>
        </p:txBody>
      </p:sp>
      <p:sp>
        <p:nvSpPr>
          <p:cNvPr id="95" name="PlaceHolder 2"/>
          <p:cNvSpPr>
            <a:spLocks noGrp="1"/>
          </p:cNvSpPr>
          <p:nvPr>
            <p:ph/>
          </p:nvPr>
        </p:nvSpPr>
        <p:spPr>
          <a:xfrm>
            <a:off x="380880" y="1981080"/>
            <a:ext cx="8229600" cy="4221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y desired for the heavenly bod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l must appear before the judgment seat of God</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rist died for all that they may live for Him</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y man that is in Christ is a new creatur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are ambassadors of Chris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8088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 Corinthians 6</a:t>
            </a:r>
            <a:endParaRPr b="0" lang="en-US" sz="4000" spc="-1" strike="noStrike">
              <a:solidFill>
                <a:srgbClr val="ffffff"/>
              </a:solidFill>
              <a:latin typeface="Tahoma"/>
            </a:endParaRPr>
          </a:p>
        </p:txBody>
      </p:sp>
      <p:sp>
        <p:nvSpPr>
          <p:cNvPr id="97" name="PlaceHolder 2"/>
          <p:cNvSpPr>
            <a:spLocks noGrp="1"/>
          </p:cNvSpPr>
          <p:nvPr>
            <p:ph/>
          </p:nvPr>
        </p:nvSpPr>
        <p:spPr>
          <a:xfrm>
            <a:off x="457200" y="1752480"/>
            <a:ext cx="8229600" cy="467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w is the day of salvation</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ive no offense that the ministry be not blamed</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ul and others had been ministers of God in afflictions, necessities, distress, stripes, imprisonments, tumults, labors, fasting; by pureness, knowledge, longsuffering, kindness, by the Holy Ghost, the word of truth, the power of God</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 not unequally yoked with unbeliever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04560"/>
            <a:ext cx="8229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 Corinthians 7</a:t>
            </a:r>
            <a:endParaRPr b="0" lang="en-US" sz="4000" spc="-1" strike="noStrike">
              <a:solidFill>
                <a:srgbClr val="ffffff"/>
              </a:solidFill>
              <a:latin typeface="Tahoma"/>
            </a:endParaRPr>
          </a:p>
        </p:txBody>
      </p:sp>
      <p:sp>
        <p:nvSpPr>
          <p:cNvPr id="99" name="PlaceHolder 2"/>
          <p:cNvSpPr>
            <a:spLocks noGrp="1"/>
          </p:cNvSpPr>
          <p:nvPr>
            <p:ph/>
          </p:nvPr>
        </p:nvSpPr>
        <p:spPr>
          <a:xfrm>
            <a:off x="533520" y="2057040"/>
            <a:ext cx="8229600" cy="3809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od had comforted Paul by the return of Titu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 was even more consolation from Corinth’s response to Paul’s stern letter</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rinth had sorrowed to repentance</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itus’ spirit was refreshed by Corinthian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all things Corinth had been clear in the matter addressed by Pau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2 Corinthians 8</a:t>
            </a:r>
            <a:endParaRPr b="0" lang="en-US" sz="4400" spc="-1" strike="noStrike">
              <a:solidFill>
                <a:srgbClr val="ffffff"/>
              </a:solidFill>
              <a:latin typeface="Tahoma"/>
            </a:endParaRPr>
          </a:p>
        </p:txBody>
      </p:sp>
      <p:sp>
        <p:nvSpPr>
          <p:cNvPr id="10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Macedonian churches had been liberal in their collection for the poor saints in Jerusalem</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y first gave themselves to the Lord</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ul requested that Corinth abound in their giving as they had in other attributes</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rist in His willingness to be sacrificed is an example for Corinth</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f there is a willing mind, gifts are accepted by what a man has</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ul’s desire was that Corinth share it’s abundance with Jerusalem</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pproved messengers conducted themselves openly and aboveboard</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2 Corinthians 9</a:t>
            </a:r>
            <a:endParaRPr b="0" lang="en-US" sz="4400" spc="-1" strike="noStrike">
              <a:solidFill>
                <a:srgbClr val="ffffff"/>
              </a:solidFill>
              <a:latin typeface="Tahoma"/>
            </a:endParaRPr>
          </a:p>
        </p:txBody>
      </p:sp>
      <p:sp>
        <p:nvSpPr>
          <p:cNvPr id="10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rinth’s readiness in giving encouraged others</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rethren had been sent ahead concerning the expected gift to allow followers in Corinth to be prepared</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very man should give as he purposes in his heart</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od blesses the cheerful giver</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2 Corinthians 10</a:t>
            </a:r>
            <a:endParaRPr b="0" lang="en-US" sz="4400" spc="-1" strike="noStrike">
              <a:solidFill>
                <a:srgbClr val="ffffff"/>
              </a:solidFill>
              <a:latin typeface="Tahoma"/>
            </a:endParaRPr>
          </a:p>
        </p:txBody>
      </p:sp>
      <p:sp>
        <p:nvSpPr>
          <p:cNvPr id="10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apons of Paul’s warfare are not carnal, but mighty through God</a:t>
            </a:r>
            <a:endParaRPr b="0" lang="en-US" sz="32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ul’s words in letters when absent were the same as his actions when present</a:t>
            </a:r>
            <a:endParaRPr b="0" lang="en-US" sz="32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 that glories, let him glory in the Lord</a:t>
            </a:r>
            <a:endParaRPr b="0" lang="en-US" sz="32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is not he that commends himself that is approved, but whom the Lord commend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2 Corinthians 11</a:t>
            </a:r>
            <a:endParaRPr b="0" lang="en-US" sz="4400" spc="-1" strike="noStrike">
              <a:solidFill>
                <a:srgbClr val="ffffff"/>
              </a:solidFill>
              <a:latin typeface="Tahoma"/>
            </a:endParaRPr>
          </a:p>
        </p:txBody>
      </p:sp>
      <p:sp>
        <p:nvSpPr>
          <p:cNvPr id="10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ul stated that he was not a whit behind the chiefest apostle</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ul had kept himself from being a financial burden to Corinth</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lse apostles transformed themselves into the apostles of Christ</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ul stated his lineage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ul reviewed sufferings that resulted from his preaching</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03T21:39:45Z</dcterms:created>
  <dc:creator>Ray Cooley</dc:creator>
  <dc:description/>
  <dc:language>en-US</dc:language>
  <cp:lastModifiedBy>Frank D Vines</cp:lastModifiedBy>
  <dcterms:modified xsi:type="dcterms:W3CDTF">2007-01-24T03:29:41Z</dcterms:modified>
  <cp:revision>40</cp:revision>
  <dc:subject/>
  <dc:title>Life of Christ, Part 2 In Perea</dc:title>
</cp:coreProperties>
</file>